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D3673-6518-4C8C-B3A8-8A912D7A5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6D34A-A973-4C47-878F-D6712EE59C2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DC308-290E-4CBC-82BC-7D667BEED4F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71E94-C085-489F-A367-3BF5040F69D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4B33A-BE6A-4DD6-8946-DB5DF8408C7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5629D-FBE0-4544-9588-62BECA1BCD1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D6D6E-79A4-428B-81D8-CED50F181BB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30950-E119-458A-82B7-E17DD8238BA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B571C-C65B-4FDB-A0A8-BD80EE9F495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69C48-D8A3-4277-A2C3-A43AD4C4CBD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576A6-5A42-4803-808B-EEA1AAA51B4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5F083-3C86-4EF1-8F1A-E701C06E25B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ED795-30CB-4B60-9BAA-2AAFF8CB610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A7F90-A609-47CD-9CE8-2F062DF400A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B2F16-1CE3-4875-B4D8-7EC7972431E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85007-B54F-4CF5-B96D-2723D468734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5EB1-0F99-488A-9070-C65ADA4E1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85800" y="3883680"/>
            <a:ext cx="77724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9856-DECF-4E3D-95C8-4A8C91EE0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388368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68480" y="388368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2B4C-230F-4D35-94A8-FEFB6EE88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13800" y="171432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1440" y="171432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85800" y="388368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13800" y="388368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1440" y="388368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8825-8867-4AF4-A8FA-96BA86021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D43C0-3899-4BF7-8418-F426ECAD7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5926A-9B4F-45F6-9637-A52C878DF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D9653-AB90-4CCD-B37D-B744E2F7B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37926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714320"/>
            <a:ext cx="37926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D7C05-F769-4DAD-925B-65F59C297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CCBBB-40D9-4471-B536-CE14F41B6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9DAAE-3FA3-4E35-8C05-B217DF585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714320"/>
            <a:ext cx="37926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388368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243E4-4B49-4B8D-B7D6-E79DEAF80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4D07-64E2-448C-A7C3-60C80ABE5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37926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68480" y="388368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3792C-B6A0-456F-B122-60FEC0B4F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883680"/>
            <a:ext cx="77724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5E194-6D94-4563-94C6-840E66011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85800" y="3883680"/>
            <a:ext cx="77724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8256F-D596-4C29-B8CF-EE43F2755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388368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68480" y="388368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52760-5BFA-44CD-BF6C-E4DC7FD96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313800" y="171432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941440" y="171432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85800" y="388368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313800" y="388368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5941440" y="388368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B9FEE-49BA-46A8-8FA2-A859EE64D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E4DF-ACF0-4E08-A6FA-B54531E83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37926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714320"/>
            <a:ext cx="37926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524E-5F70-4C3C-9D83-002B8A6EE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16D3-BF57-4EC8-A774-233A91C52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C79F-1AF2-4F61-8D92-6AB21BA84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14320"/>
            <a:ext cx="37926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8368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C36C-D639-493F-9085-7E1024F13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37926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68480" y="388368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BD06-4061-4500-8DE6-17D582E12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3883680"/>
            <a:ext cx="77724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2A06-6FED-4D45-8481-B3C3899B7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2.png"/><Relationship Id="rId15" Type="http://schemas.openxmlformats.org/officeDocument/2006/relationships/slideLayout" Target="../slideLayouts/slideLayout1.xml"/><Relationship Id="rId16" Type="http://schemas.openxmlformats.org/officeDocument/2006/relationships/slideLayout" Target="../slideLayouts/slideLayout2.xml"/><Relationship Id="rId17" Type="http://schemas.openxmlformats.org/officeDocument/2006/relationships/slideLayout" Target="../slideLayouts/slideLayout3.xml"/><Relationship Id="rId18" Type="http://schemas.openxmlformats.org/officeDocument/2006/relationships/slideLayout" Target="../slideLayouts/slideLayout4.xml"/><Relationship Id="rId19" Type="http://schemas.openxmlformats.org/officeDocument/2006/relationships/slideLayout" Target="../slideLayouts/slideLayout5.xml"/><Relationship Id="rId20" Type="http://schemas.openxmlformats.org/officeDocument/2006/relationships/slideLayout" Target="../slideLayouts/slideLayout6.xml"/><Relationship Id="rId21" Type="http://schemas.openxmlformats.org/officeDocument/2006/relationships/slideLayout" Target="../slideLayouts/slideLayout7.xml"/><Relationship Id="rId22" Type="http://schemas.openxmlformats.org/officeDocument/2006/relationships/slideLayout" Target="../slideLayouts/slideLayout8.xml"/><Relationship Id="rId23" Type="http://schemas.openxmlformats.org/officeDocument/2006/relationships/slideLayout" Target="../slideLayouts/slideLayout9.xml"/><Relationship Id="rId24" Type="http://schemas.openxmlformats.org/officeDocument/2006/relationships/slideLayout" Target="../slideLayouts/slideLayout10.xml"/><Relationship Id="rId25" Type="http://schemas.openxmlformats.org/officeDocument/2006/relationships/slideLayout" Target="../slideLayouts/slideLayout11.xml"/><Relationship Id="rId2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2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5797440"/>
            <a:ext cx="9167760" cy="1076400"/>
            <a:chOff x="0" y="5797440"/>
            <a:chExt cx="9167760" cy="1076400"/>
          </a:xfrm>
        </p:grpSpPr>
        <p:sp>
          <p:nvSpPr>
            <p:cNvPr id="1" name="Rectangle 3"/>
            <p:cNvSpPr/>
            <p:nvPr/>
          </p:nvSpPr>
          <p:spPr>
            <a:xfrm>
              <a:off x="0" y="5835600"/>
              <a:ext cx="9166320" cy="1020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5797440"/>
              <a:ext cx="9167760" cy="1076400"/>
              <a:chOff x="0" y="5797440"/>
              <a:chExt cx="9167760" cy="107640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0" y="5797440"/>
                <a:ext cx="919080" cy="1076400"/>
              </a:xfrm>
              <a:custGeom>
                <a:avLst/>
                <a:gdLst>
                  <a:gd name="textAreaLeft" fmla="*/ 0 w 919080"/>
                  <a:gd name="textAreaRight" fmla="*/ 919440 w 919080"/>
                  <a:gd name="textAreaTop" fmla="*/ 0 h 1076400"/>
                  <a:gd name="textAreaBottom" fmla="*/ 1076760 h 1076400"/>
                </a:gdLst>
                <a:ahLst/>
                <a:rect l="textAreaLeft" t="textAreaTop" r="textAreaRight" b="textAreaBottom"/>
                <a:pathLst>
                  <a:path w="579" h="678">
                    <a:moveTo>
                      <a:pt x="0" y="677"/>
                    </a:moveTo>
                    <a:lnTo>
                      <a:pt x="481" y="0"/>
                    </a:lnTo>
                    <a:lnTo>
                      <a:pt x="578" y="0"/>
                    </a:lnTo>
                    <a:lnTo>
                      <a:pt x="96" y="677"/>
                    </a:lnTo>
                    <a:lnTo>
                      <a:pt x="0" y="677"/>
                    </a:lnTo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689040" y="5797440"/>
                <a:ext cx="919080" cy="1076400"/>
              </a:xfrm>
              <a:custGeom>
                <a:avLst/>
                <a:gdLst>
                  <a:gd name="textAreaLeft" fmla="*/ 0 w 919080"/>
                  <a:gd name="textAreaRight" fmla="*/ 919440 w 919080"/>
                  <a:gd name="textAreaTop" fmla="*/ 0 h 1076400"/>
                  <a:gd name="textAreaBottom" fmla="*/ 1076760 h 1076400"/>
                </a:gdLst>
                <a:ahLst/>
                <a:rect l="textAreaLeft" t="textAreaTop" r="textAreaRight" b="textAreaBottom"/>
                <a:pathLst>
                  <a:path w="579" h="678">
                    <a:moveTo>
                      <a:pt x="0" y="677"/>
                    </a:moveTo>
                    <a:lnTo>
                      <a:pt x="481" y="0"/>
                    </a:lnTo>
                    <a:lnTo>
                      <a:pt x="578" y="0"/>
                    </a:lnTo>
                    <a:lnTo>
                      <a:pt x="96" y="677"/>
                    </a:lnTo>
                    <a:lnTo>
                      <a:pt x="0" y="677"/>
                    </a:lnTo>
                  </a:path>
                </a:pathLst>
              </a:cu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1395360" y="5797440"/>
                <a:ext cx="920880" cy="1076400"/>
              </a:xfrm>
              <a:custGeom>
                <a:avLst/>
                <a:gdLst>
                  <a:gd name="textAreaLeft" fmla="*/ 0 w 920880"/>
                  <a:gd name="textAreaRight" fmla="*/ 921240 w 920880"/>
                  <a:gd name="textAreaTop" fmla="*/ 0 h 1076400"/>
                  <a:gd name="textAreaBottom" fmla="*/ 1076760 h 1076400"/>
                </a:gdLst>
                <a:ahLst/>
                <a:rect l="textAreaLeft" t="textAreaTop" r="textAreaRight" b="textAreaBottom"/>
                <a:pathLst>
                  <a:path w="580" h="678">
                    <a:moveTo>
                      <a:pt x="0" y="677"/>
                    </a:moveTo>
                    <a:lnTo>
                      <a:pt x="482" y="0"/>
                    </a:lnTo>
                    <a:lnTo>
                      <a:pt x="579" y="0"/>
                    </a:lnTo>
                    <a:lnTo>
                      <a:pt x="96" y="677"/>
                    </a:lnTo>
                    <a:lnTo>
                      <a:pt x="0" y="677"/>
                    </a:lnTo>
                  </a:path>
                </a:pathLst>
              </a:cu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2103480" y="5797440"/>
                <a:ext cx="919080" cy="1076400"/>
              </a:xfrm>
              <a:custGeom>
                <a:avLst/>
                <a:gdLst>
                  <a:gd name="textAreaLeft" fmla="*/ 0 w 919080"/>
                  <a:gd name="textAreaRight" fmla="*/ 919440 w 919080"/>
                  <a:gd name="textAreaTop" fmla="*/ 0 h 1076400"/>
                  <a:gd name="textAreaBottom" fmla="*/ 1076760 h 1076400"/>
                </a:gdLst>
                <a:ahLst/>
                <a:rect l="textAreaLeft" t="textAreaTop" r="textAreaRight" b="textAreaBottom"/>
                <a:pathLst>
                  <a:path w="579" h="678">
                    <a:moveTo>
                      <a:pt x="0" y="677"/>
                    </a:moveTo>
                    <a:lnTo>
                      <a:pt x="481" y="0"/>
                    </a:lnTo>
                    <a:lnTo>
                      <a:pt x="578" y="0"/>
                    </a:lnTo>
                    <a:lnTo>
                      <a:pt x="96" y="677"/>
                    </a:lnTo>
                    <a:lnTo>
                      <a:pt x="0" y="677"/>
                    </a:lnTo>
                  </a:path>
                </a:pathLst>
              </a:cu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2811600" y="5797440"/>
                <a:ext cx="919080" cy="1076400"/>
              </a:xfrm>
              <a:custGeom>
                <a:avLst/>
                <a:gdLst>
                  <a:gd name="textAreaLeft" fmla="*/ 0 w 919080"/>
                  <a:gd name="textAreaRight" fmla="*/ 919440 w 919080"/>
                  <a:gd name="textAreaTop" fmla="*/ 0 h 1076400"/>
                  <a:gd name="textAreaBottom" fmla="*/ 1076760 h 1076400"/>
                </a:gdLst>
                <a:ahLst/>
                <a:rect l="textAreaLeft" t="textAreaTop" r="textAreaRight" b="textAreaBottom"/>
                <a:pathLst>
                  <a:path w="579" h="678">
                    <a:moveTo>
                      <a:pt x="0" y="677"/>
                    </a:moveTo>
                    <a:lnTo>
                      <a:pt x="481" y="0"/>
                    </a:lnTo>
                    <a:lnTo>
                      <a:pt x="578" y="0"/>
                    </a:lnTo>
                    <a:lnTo>
                      <a:pt x="96" y="677"/>
                    </a:lnTo>
                    <a:lnTo>
                      <a:pt x="0" y="677"/>
                    </a:lnTo>
                  </a:path>
                </a:pathLst>
              </a:cu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3517920" y="5797440"/>
                <a:ext cx="920880" cy="1076400"/>
              </a:xfrm>
              <a:custGeom>
                <a:avLst/>
                <a:gdLst>
                  <a:gd name="textAreaLeft" fmla="*/ 0 w 920880"/>
                  <a:gd name="textAreaRight" fmla="*/ 921240 w 920880"/>
                  <a:gd name="textAreaTop" fmla="*/ 0 h 1076400"/>
                  <a:gd name="textAreaBottom" fmla="*/ 1076760 h 1076400"/>
                </a:gdLst>
                <a:ahLst/>
                <a:rect l="textAreaLeft" t="textAreaTop" r="textAreaRight" b="textAreaBottom"/>
                <a:pathLst>
                  <a:path w="580" h="678">
                    <a:moveTo>
                      <a:pt x="0" y="677"/>
                    </a:moveTo>
                    <a:lnTo>
                      <a:pt x="482" y="0"/>
                    </a:lnTo>
                    <a:lnTo>
                      <a:pt x="579" y="0"/>
                    </a:lnTo>
                    <a:lnTo>
                      <a:pt x="96" y="677"/>
                    </a:lnTo>
                    <a:lnTo>
                      <a:pt x="0" y="677"/>
                    </a:lnTo>
                  </a:path>
                </a:pathLst>
              </a:cu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206960" y="5797440"/>
                <a:ext cx="919080" cy="1076400"/>
              </a:xfrm>
              <a:custGeom>
                <a:avLst/>
                <a:gdLst>
                  <a:gd name="textAreaLeft" fmla="*/ 0 w 919080"/>
                  <a:gd name="textAreaRight" fmla="*/ 919440 w 919080"/>
                  <a:gd name="textAreaTop" fmla="*/ 0 h 1076400"/>
                  <a:gd name="textAreaBottom" fmla="*/ 1076760 h 1076400"/>
                </a:gdLst>
                <a:ahLst/>
                <a:rect l="textAreaLeft" t="textAreaTop" r="textAreaRight" b="textAreaBottom"/>
                <a:pathLst>
                  <a:path w="579" h="678">
                    <a:moveTo>
                      <a:pt x="0" y="677"/>
                    </a:moveTo>
                    <a:lnTo>
                      <a:pt x="481" y="0"/>
                    </a:lnTo>
                    <a:lnTo>
                      <a:pt x="578" y="0"/>
                    </a:lnTo>
                    <a:lnTo>
                      <a:pt x="96" y="677"/>
                    </a:lnTo>
                    <a:lnTo>
                      <a:pt x="0" y="677"/>
                    </a:lnTo>
                  </a:path>
                </a:pathLst>
              </a:cu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4915080" y="5797440"/>
                <a:ext cx="919080" cy="1076400"/>
              </a:xfrm>
              <a:custGeom>
                <a:avLst/>
                <a:gdLst>
                  <a:gd name="textAreaLeft" fmla="*/ 0 w 919080"/>
                  <a:gd name="textAreaRight" fmla="*/ 919440 w 919080"/>
                  <a:gd name="textAreaTop" fmla="*/ 0 h 1076400"/>
                  <a:gd name="textAreaBottom" fmla="*/ 1076760 h 1076400"/>
                </a:gdLst>
                <a:ahLst/>
                <a:rect l="textAreaLeft" t="textAreaTop" r="textAreaRight" b="textAreaBottom"/>
                <a:pathLst>
                  <a:path w="579" h="678">
                    <a:moveTo>
                      <a:pt x="0" y="677"/>
                    </a:moveTo>
                    <a:lnTo>
                      <a:pt x="481" y="0"/>
                    </a:lnTo>
                    <a:lnTo>
                      <a:pt x="578" y="0"/>
                    </a:lnTo>
                    <a:lnTo>
                      <a:pt x="96" y="677"/>
                    </a:lnTo>
                    <a:lnTo>
                      <a:pt x="0" y="677"/>
                    </a:lnTo>
                  </a:path>
                </a:pathLst>
              </a:cu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41920" y="5797440"/>
                <a:ext cx="919080" cy="1076400"/>
              </a:xfrm>
              <a:custGeom>
                <a:avLst/>
                <a:gdLst>
                  <a:gd name="textAreaLeft" fmla="*/ 0 w 919080"/>
                  <a:gd name="textAreaRight" fmla="*/ 919440 w 919080"/>
                  <a:gd name="textAreaTop" fmla="*/ 0 h 1076400"/>
                  <a:gd name="textAreaBottom" fmla="*/ 1076760 h 1076400"/>
                </a:gdLst>
                <a:ahLst/>
                <a:rect l="textAreaLeft" t="textAreaTop" r="textAreaRight" b="textAreaBottom"/>
                <a:pathLst>
                  <a:path w="579" h="678">
                    <a:moveTo>
                      <a:pt x="0" y="677"/>
                    </a:moveTo>
                    <a:lnTo>
                      <a:pt x="481" y="0"/>
                    </a:lnTo>
                    <a:lnTo>
                      <a:pt x="578" y="0"/>
                    </a:lnTo>
                    <a:lnTo>
                      <a:pt x="96" y="677"/>
                    </a:lnTo>
                    <a:lnTo>
                      <a:pt x="0" y="677"/>
                    </a:lnTo>
                  </a:path>
                </a:pathLst>
              </a:cu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6367320" y="5797440"/>
                <a:ext cx="919440" cy="107640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076400"/>
                  <a:gd name="textAreaBottom" fmla="*/ 1076760 h 1076400"/>
                </a:gdLst>
                <a:ahLst/>
                <a:rect l="textAreaLeft" t="textAreaTop" r="textAreaRight" b="textAreaBottom"/>
                <a:pathLst>
                  <a:path w="579" h="678">
                    <a:moveTo>
                      <a:pt x="0" y="677"/>
                    </a:moveTo>
                    <a:lnTo>
                      <a:pt x="481" y="0"/>
                    </a:lnTo>
                    <a:lnTo>
                      <a:pt x="578" y="0"/>
                    </a:lnTo>
                    <a:lnTo>
                      <a:pt x="96" y="677"/>
                    </a:lnTo>
                    <a:lnTo>
                      <a:pt x="0" y="677"/>
                    </a:lnTo>
                  </a:path>
                </a:pathLst>
              </a:cu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113600" y="5797440"/>
                <a:ext cx="919080" cy="1076400"/>
              </a:xfrm>
              <a:custGeom>
                <a:avLst/>
                <a:gdLst>
                  <a:gd name="textAreaLeft" fmla="*/ 0 w 919080"/>
                  <a:gd name="textAreaRight" fmla="*/ 919440 w 919080"/>
                  <a:gd name="textAreaTop" fmla="*/ 0 h 1076400"/>
                  <a:gd name="textAreaBottom" fmla="*/ 1076760 h 1076400"/>
                </a:gdLst>
                <a:ahLst/>
                <a:rect l="textAreaLeft" t="textAreaTop" r="textAreaRight" b="textAreaBottom"/>
                <a:pathLst>
                  <a:path w="579" h="678">
                    <a:moveTo>
                      <a:pt x="0" y="677"/>
                    </a:moveTo>
                    <a:lnTo>
                      <a:pt x="481" y="0"/>
                    </a:lnTo>
                    <a:lnTo>
                      <a:pt x="578" y="0"/>
                    </a:lnTo>
                    <a:lnTo>
                      <a:pt x="96" y="677"/>
                    </a:lnTo>
                    <a:lnTo>
                      <a:pt x="0" y="677"/>
                    </a:lnTo>
                  </a:path>
                </a:pathLst>
              </a:cu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840800" y="5797440"/>
                <a:ext cx="919080" cy="1076400"/>
              </a:xfrm>
              <a:custGeom>
                <a:avLst/>
                <a:gdLst>
                  <a:gd name="textAreaLeft" fmla="*/ 0 w 919080"/>
                  <a:gd name="textAreaRight" fmla="*/ 919440 w 919080"/>
                  <a:gd name="textAreaTop" fmla="*/ 0 h 1076400"/>
                  <a:gd name="textAreaBottom" fmla="*/ 1076760 h 1076400"/>
                </a:gdLst>
                <a:ahLst/>
                <a:rect l="textAreaLeft" t="textAreaTop" r="textAreaRight" b="textAreaBottom"/>
                <a:pathLst>
                  <a:path w="579" h="678">
                    <a:moveTo>
                      <a:pt x="0" y="677"/>
                    </a:moveTo>
                    <a:lnTo>
                      <a:pt x="481" y="0"/>
                    </a:lnTo>
                    <a:lnTo>
                      <a:pt x="578" y="0"/>
                    </a:lnTo>
                    <a:lnTo>
                      <a:pt x="96" y="677"/>
                    </a:lnTo>
                    <a:lnTo>
                      <a:pt x="0" y="677"/>
                    </a:lnTo>
                  </a:path>
                </a:pathLst>
              </a:cu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8593200" y="6072120"/>
                <a:ext cx="574560" cy="801720"/>
              </a:xfrm>
              <a:custGeom>
                <a:avLst/>
                <a:gdLst>
                  <a:gd name="textAreaLeft" fmla="*/ 0 w 574560"/>
                  <a:gd name="textAreaRight" fmla="*/ 574920 w 574560"/>
                  <a:gd name="textAreaTop" fmla="*/ 0 h 801720"/>
                  <a:gd name="textAreaBottom" fmla="*/ 802080 h 801720"/>
                </a:gdLst>
                <a:ahLst/>
                <a:rect l="textAreaLeft" t="textAreaTop" r="textAreaRight" b="textAreaBottom"/>
                <a:pathLst>
                  <a:path w="362" h="505">
                    <a:moveTo>
                      <a:pt x="0" y="504"/>
                    </a:moveTo>
                    <a:lnTo>
                      <a:pt x="361" y="0"/>
                    </a:lnTo>
                    <a:lnTo>
                      <a:pt x="361" y="122"/>
                    </a:lnTo>
                    <a:lnTo>
                      <a:pt x="96" y="504"/>
                    </a:lnTo>
                    <a:lnTo>
                      <a:pt x="0" y="504"/>
                    </a:lnTo>
                  </a:path>
                </a:pathLst>
              </a:cu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body"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51567-615B-4493-A65D-A974F4E11B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5"/>
    <p:sldLayoutId id="2147483650" r:id="rId16"/>
    <p:sldLayoutId id="2147483651" r:id="rId17"/>
    <p:sldLayoutId id="2147483652" r:id="rId18"/>
    <p:sldLayoutId id="2147483653" r:id="rId19"/>
    <p:sldLayoutId id="2147483654" r:id="rId20"/>
    <p:sldLayoutId id="2147483655" r:id="rId21"/>
    <p:sldLayoutId id="2147483656" r:id="rId22"/>
    <p:sldLayoutId id="2147483657" r:id="rId23"/>
    <p:sldLayoutId id="2147483658" r:id="rId24"/>
    <p:sldLayoutId id="2147483659" r:id="rId25"/>
    <p:sldLayoutId id="2147483660" r:id="rId2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760840"/>
            <a:ext cx="9151920" cy="4113000"/>
            <a:chOff x="0" y="2760840"/>
            <a:chExt cx="9151920" cy="4113000"/>
          </a:xfrm>
        </p:grpSpPr>
        <p:grpSp>
          <p:nvGrpSpPr>
            <p:cNvPr id="58" name="Group 3"/>
            <p:cNvGrpSpPr/>
            <p:nvPr/>
          </p:nvGrpSpPr>
          <p:grpSpPr>
            <a:xfrm>
              <a:off x="0" y="5797440"/>
              <a:ext cx="9151920" cy="1076400"/>
              <a:chOff x="0" y="5797440"/>
              <a:chExt cx="9151920" cy="1076400"/>
            </a:xfrm>
          </p:grpSpPr>
          <p:sp>
            <p:nvSpPr>
              <p:cNvPr id="59" name="Rectangle 4"/>
              <p:cNvSpPr/>
              <p:nvPr/>
            </p:nvSpPr>
            <p:spPr>
              <a:xfrm>
                <a:off x="0" y="5835600"/>
                <a:ext cx="9150480" cy="102096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Group 5"/>
              <p:cNvGrpSpPr/>
              <p:nvPr/>
            </p:nvGrpSpPr>
            <p:grpSpPr>
              <a:xfrm>
                <a:off x="0" y="5797440"/>
                <a:ext cx="9151920" cy="1076400"/>
                <a:chOff x="0" y="5797440"/>
                <a:chExt cx="9151920" cy="1076400"/>
              </a:xfrm>
            </p:grpSpPr>
            <p:sp>
              <p:nvSpPr>
                <p:cNvPr id="61" name="Freeform 6"/>
                <p:cNvSpPr/>
                <p:nvPr/>
              </p:nvSpPr>
              <p:spPr>
                <a:xfrm>
                  <a:off x="0" y="5797440"/>
                  <a:ext cx="917640" cy="1076400"/>
                </a:xfrm>
                <a:custGeom>
                  <a:avLst/>
                  <a:gdLst>
                    <a:gd name="textAreaLeft" fmla="*/ 0 w 917640"/>
                    <a:gd name="textAreaRight" fmla="*/ 918000 w 917640"/>
                    <a:gd name="textAreaTop" fmla="*/ 0 h 1076400"/>
                    <a:gd name="textAreaBottom" fmla="*/ 1076760 h 1076400"/>
                  </a:gdLst>
                  <a:ahLst/>
                  <a:rect l="textAreaLeft" t="textAreaTop" r="textAreaRight" b="textAreaBottom"/>
                  <a:pathLst>
                    <a:path w="578" h="678">
                      <a:moveTo>
                        <a:pt x="0" y="677"/>
                      </a:moveTo>
                      <a:lnTo>
                        <a:pt x="480" y="0"/>
                      </a:lnTo>
                      <a:lnTo>
                        <a:pt x="577" y="0"/>
                      </a:lnTo>
                      <a:lnTo>
                        <a:pt x="96" y="677"/>
                      </a:lnTo>
                      <a:lnTo>
                        <a:pt x="0" y="677"/>
                      </a:lnTo>
                    </a:path>
                  </a:pathLst>
                </a:custGeom>
                <a:blipFill rotWithShape="0">
                  <a:blip r:embed="rId2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Freeform 7"/>
                <p:cNvSpPr/>
                <p:nvPr/>
              </p:nvSpPr>
              <p:spPr>
                <a:xfrm>
                  <a:off x="687240" y="5797440"/>
                  <a:ext cx="917640" cy="1076400"/>
                </a:xfrm>
                <a:custGeom>
                  <a:avLst/>
                  <a:gdLst>
                    <a:gd name="textAreaLeft" fmla="*/ 0 w 917640"/>
                    <a:gd name="textAreaRight" fmla="*/ 918000 w 917640"/>
                    <a:gd name="textAreaTop" fmla="*/ 0 h 1076400"/>
                    <a:gd name="textAreaBottom" fmla="*/ 1076760 h 1076400"/>
                  </a:gdLst>
                  <a:ahLst/>
                  <a:rect l="textAreaLeft" t="textAreaTop" r="textAreaRight" b="textAreaBottom"/>
                  <a:pathLst>
                    <a:path w="578" h="678">
                      <a:moveTo>
                        <a:pt x="0" y="677"/>
                      </a:moveTo>
                      <a:lnTo>
                        <a:pt x="480" y="0"/>
                      </a:lnTo>
                      <a:lnTo>
                        <a:pt x="577" y="0"/>
                      </a:lnTo>
                      <a:lnTo>
                        <a:pt x="96" y="677"/>
                      </a:lnTo>
                      <a:lnTo>
                        <a:pt x="0" y="677"/>
                      </a:lnTo>
                    </a:path>
                  </a:pathLst>
                </a:custGeom>
                <a:blipFill rotWithShape="0">
                  <a:blip r:embed="rId3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Freeform 8"/>
                <p:cNvSpPr/>
                <p:nvPr/>
              </p:nvSpPr>
              <p:spPr>
                <a:xfrm>
                  <a:off x="1393920" y="5797440"/>
                  <a:ext cx="917640" cy="1076400"/>
                </a:xfrm>
                <a:custGeom>
                  <a:avLst/>
                  <a:gdLst>
                    <a:gd name="textAreaLeft" fmla="*/ 0 w 917640"/>
                    <a:gd name="textAreaRight" fmla="*/ 918000 w 917640"/>
                    <a:gd name="textAreaTop" fmla="*/ 0 h 1076400"/>
                    <a:gd name="textAreaBottom" fmla="*/ 1076760 h 1076400"/>
                  </a:gdLst>
                  <a:ahLst/>
                  <a:rect l="textAreaLeft" t="textAreaTop" r="textAreaRight" b="textAreaBottom"/>
                  <a:pathLst>
                    <a:path w="578" h="678">
                      <a:moveTo>
                        <a:pt x="0" y="677"/>
                      </a:moveTo>
                      <a:lnTo>
                        <a:pt x="480" y="0"/>
                      </a:lnTo>
                      <a:lnTo>
                        <a:pt x="577" y="0"/>
                      </a:lnTo>
                      <a:lnTo>
                        <a:pt x="96" y="677"/>
                      </a:lnTo>
                      <a:lnTo>
                        <a:pt x="0" y="677"/>
                      </a:lnTo>
                    </a:path>
                  </a:pathLst>
                </a:custGeom>
                <a:blipFill rotWithShape="0">
                  <a:blip r:embed="rId4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Freeform 9"/>
                <p:cNvSpPr/>
                <p:nvPr/>
              </p:nvSpPr>
              <p:spPr>
                <a:xfrm>
                  <a:off x="2100240" y="5797440"/>
                  <a:ext cx="917640" cy="1076400"/>
                </a:xfrm>
                <a:custGeom>
                  <a:avLst/>
                  <a:gdLst>
                    <a:gd name="textAreaLeft" fmla="*/ 0 w 917640"/>
                    <a:gd name="textAreaRight" fmla="*/ 918000 w 917640"/>
                    <a:gd name="textAreaTop" fmla="*/ 0 h 1076400"/>
                    <a:gd name="textAreaBottom" fmla="*/ 1076760 h 1076400"/>
                  </a:gdLst>
                  <a:ahLst/>
                  <a:rect l="textAreaLeft" t="textAreaTop" r="textAreaRight" b="textAreaBottom"/>
                  <a:pathLst>
                    <a:path w="578" h="678">
                      <a:moveTo>
                        <a:pt x="0" y="677"/>
                      </a:moveTo>
                      <a:lnTo>
                        <a:pt x="480" y="0"/>
                      </a:lnTo>
                      <a:lnTo>
                        <a:pt x="577" y="0"/>
                      </a:lnTo>
                      <a:lnTo>
                        <a:pt x="96" y="677"/>
                      </a:lnTo>
                      <a:lnTo>
                        <a:pt x="0" y="677"/>
                      </a:lnTo>
                    </a:path>
                  </a:pathLst>
                </a:custGeom>
                <a:blipFill rotWithShape="0">
                  <a:blip r:embed="rId5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Freeform 10"/>
                <p:cNvSpPr/>
                <p:nvPr/>
              </p:nvSpPr>
              <p:spPr>
                <a:xfrm>
                  <a:off x="2806560" y="5797440"/>
                  <a:ext cx="917640" cy="1076400"/>
                </a:xfrm>
                <a:custGeom>
                  <a:avLst/>
                  <a:gdLst>
                    <a:gd name="textAreaLeft" fmla="*/ 0 w 917640"/>
                    <a:gd name="textAreaRight" fmla="*/ 918000 w 917640"/>
                    <a:gd name="textAreaTop" fmla="*/ 0 h 1076400"/>
                    <a:gd name="textAreaBottom" fmla="*/ 1076760 h 1076400"/>
                  </a:gdLst>
                  <a:ahLst/>
                  <a:rect l="textAreaLeft" t="textAreaTop" r="textAreaRight" b="textAreaBottom"/>
                  <a:pathLst>
                    <a:path w="578" h="678">
                      <a:moveTo>
                        <a:pt x="0" y="677"/>
                      </a:moveTo>
                      <a:lnTo>
                        <a:pt x="480" y="0"/>
                      </a:lnTo>
                      <a:lnTo>
                        <a:pt x="577" y="0"/>
                      </a:lnTo>
                      <a:lnTo>
                        <a:pt x="96" y="677"/>
                      </a:lnTo>
                      <a:lnTo>
                        <a:pt x="0" y="677"/>
                      </a:lnTo>
                    </a:path>
                  </a:pathLst>
                </a:custGeom>
                <a:blipFill rotWithShape="0">
                  <a:blip r:embed="rId6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Freeform 11"/>
                <p:cNvSpPr/>
                <p:nvPr/>
              </p:nvSpPr>
              <p:spPr>
                <a:xfrm>
                  <a:off x="3513240" y="5797440"/>
                  <a:ext cx="917640" cy="1076400"/>
                </a:xfrm>
                <a:custGeom>
                  <a:avLst/>
                  <a:gdLst>
                    <a:gd name="textAreaLeft" fmla="*/ 0 w 917640"/>
                    <a:gd name="textAreaRight" fmla="*/ 918000 w 917640"/>
                    <a:gd name="textAreaTop" fmla="*/ 0 h 1076400"/>
                    <a:gd name="textAreaBottom" fmla="*/ 1076760 h 1076400"/>
                  </a:gdLst>
                  <a:ahLst/>
                  <a:rect l="textAreaLeft" t="textAreaTop" r="textAreaRight" b="textAreaBottom"/>
                  <a:pathLst>
                    <a:path w="578" h="678">
                      <a:moveTo>
                        <a:pt x="0" y="677"/>
                      </a:moveTo>
                      <a:lnTo>
                        <a:pt x="480" y="0"/>
                      </a:lnTo>
                      <a:lnTo>
                        <a:pt x="577" y="0"/>
                      </a:lnTo>
                      <a:lnTo>
                        <a:pt x="96" y="677"/>
                      </a:lnTo>
                      <a:lnTo>
                        <a:pt x="0" y="677"/>
                      </a:lnTo>
                    </a:path>
                  </a:pathLst>
                </a:custGeom>
                <a:blipFill rotWithShape="0">
                  <a:blip r:embed="rId7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Freeform 12"/>
                <p:cNvSpPr/>
                <p:nvPr/>
              </p:nvSpPr>
              <p:spPr>
                <a:xfrm>
                  <a:off x="4200480" y="5797440"/>
                  <a:ext cx="917640" cy="1076400"/>
                </a:xfrm>
                <a:custGeom>
                  <a:avLst/>
                  <a:gdLst>
                    <a:gd name="textAreaLeft" fmla="*/ 0 w 917640"/>
                    <a:gd name="textAreaRight" fmla="*/ 918000 w 917640"/>
                    <a:gd name="textAreaTop" fmla="*/ 0 h 1076400"/>
                    <a:gd name="textAreaBottom" fmla="*/ 1076760 h 1076400"/>
                  </a:gdLst>
                  <a:ahLst/>
                  <a:rect l="textAreaLeft" t="textAreaTop" r="textAreaRight" b="textAreaBottom"/>
                  <a:pathLst>
                    <a:path w="578" h="678">
                      <a:moveTo>
                        <a:pt x="0" y="677"/>
                      </a:moveTo>
                      <a:lnTo>
                        <a:pt x="480" y="0"/>
                      </a:lnTo>
                      <a:lnTo>
                        <a:pt x="577" y="0"/>
                      </a:lnTo>
                      <a:lnTo>
                        <a:pt x="96" y="677"/>
                      </a:lnTo>
                      <a:lnTo>
                        <a:pt x="0" y="677"/>
                      </a:lnTo>
                    </a:path>
                  </a:pathLst>
                </a:custGeom>
                <a:blipFill rotWithShape="0">
                  <a:blip r:embed="rId8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Freeform 13"/>
                <p:cNvSpPr/>
                <p:nvPr/>
              </p:nvSpPr>
              <p:spPr>
                <a:xfrm>
                  <a:off x="4905360" y="5797440"/>
                  <a:ext cx="919080" cy="1076400"/>
                </a:xfrm>
                <a:custGeom>
                  <a:avLst/>
                  <a:gdLst>
                    <a:gd name="textAreaLeft" fmla="*/ 0 w 919080"/>
                    <a:gd name="textAreaRight" fmla="*/ 919440 w 919080"/>
                    <a:gd name="textAreaTop" fmla="*/ 0 h 1076400"/>
                    <a:gd name="textAreaBottom" fmla="*/ 1076760 h 1076400"/>
                  </a:gdLst>
                  <a:ahLst/>
                  <a:rect l="textAreaLeft" t="textAreaTop" r="textAreaRight" b="textAreaBottom"/>
                  <a:pathLst>
                    <a:path w="579" h="678">
                      <a:moveTo>
                        <a:pt x="0" y="677"/>
                      </a:moveTo>
                      <a:lnTo>
                        <a:pt x="481" y="0"/>
                      </a:lnTo>
                      <a:lnTo>
                        <a:pt x="578" y="0"/>
                      </a:lnTo>
                      <a:lnTo>
                        <a:pt x="96" y="677"/>
                      </a:lnTo>
                      <a:lnTo>
                        <a:pt x="0" y="677"/>
                      </a:lnTo>
                    </a:path>
                  </a:pathLst>
                </a:custGeom>
                <a:blipFill rotWithShape="0">
                  <a:blip r:embed="rId9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Freeform 14"/>
                <p:cNvSpPr/>
                <p:nvPr/>
              </p:nvSpPr>
              <p:spPr>
                <a:xfrm>
                  <a:off x="5630760" y="5797440"/>
                  <a:ext cx="919440" cy="1076400"/>
                </a:xfrm>
                <a:custGeom>
                  <a:avLst/>
                  <a:gdLst>
                    <a:gd name="textAreaLeft" fmla="*/ 0 w 919440"/>
                    <a:gd name="textAreaRight" fmla="*/ 919800 w 919440"/>
                    <a:gd name="textAreaTop" fmla="*/ 0 h 1076400"/>
                    <a:gd name="textAreaBottom" fmla="*/ 1076760 h 1076400"/>
                  </a:gdLst>
                  <a:ahLst/>
                  <a:rect l="textAreaLeft" t="textAreaTop" r="textAreaRight" b="textAreaBottom"/>
                  <a:pathLst>
                    <a:path w="579" h="678">
                      <a:moveTo>
                        <a:pt x="0" y="677"/>
                      </a:moveTo>
                      <a:lnTo>
                        <a:pt x="481" y="0"/>
                      </a:lnTo>
                      <a:lnTo>
                        <a:pt x="578" y="0"/>
                      </a:lnTo>
                      <a:lnTo>
                        <a:pt x="96" y="677"/>
                      </a:lnTo>
                      <a:lnTo>
                        <a:pt x="0" y="677"/>
                      </a:lnTo>
                    </a:path>
                  </a:pathLst>
                </a:custGeom>
                <a:blipFill rotWithShape="0">
                  <a:blip r:embed="rId10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Freeform 15"/>
                <p:cNvSpPr/>
                <p:nvPr/>
              </p:nvSpPr>
              <p:spPr>
                <a:xfrm>
                  <a:off x="6356520" y="5797440"/>
                  <a:ext cx="919080" cy="1076400"/>
                </a:xfrm>
                <a:custGeom>
                  <a:avLst/>
                  <a:gdLst>
                    <a:gd name="textAreaLeft" fmla="*/ 0 w 919080"/>
                    <a:gd name="textAreaRight" fmla="*/ 919440 w 919080"/>
                    <a:gd name="textAreaTop" fmla="*/ 0 h 1076400"/>
                    <a:gd name="textAreaBottom" fmla="*/ 1076760 h 1076400"/>
                  </a:gdLst>
                  <a:ahLst/>
                  <a:rect l="textAreaLeft" t="textAreaTop" r="textAreaRight" b="textAreaBottom"/>
                  <a:pathLst>
                    <a:path w="579" h="678">
                      <a:moveTo>
                        <a:pt x="0" y="677"/>
                      </a:moveTo>
                      <a:lnTo>
                        <a:pt x="481" y="0"/>
                      </a:lnTo>
                      <a:lnTo>
                        <a:pt x="578" y="0"/>
                      </a:lnTo>
                      <a:lnTo>
                        <a:pt x="96" y="677"/>
                      </a:lnTo>
                      <a:lnTo>
                        <a:pt x="0" y="677"/>
                      </a:lnTo>
                    </a:path>
                  </a:pathLst>
                </a:custGeom>
                <a:blipFill rotWithShape="0">
                  <a:blip r:embed="rId11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Freeform 16"/>
                <p:cNvSpPr/>
                <p:nvPr/>
              </p:nvSpPr>
              <p:spPr>
                <a:xfrm>
                  <a:off x="7101000" y="5797440"/>
                  <a:ext cx="919080" cy="1076400"/>
                </a:xfrm>
                <a:custGeom>
                  <a:avLst/>
                  <a:gdLst>
                    <a:gd name="textAreaLeft" fmla="*/ 0 w 919080"/>
                    <a:gd name="textAreaRight" fmla="*/ 919440 w 919080"/>
                    <a:gd name="textAreaTop" fmla="*/ 0 h 1076400"/>
                    <a:gd name="textAreaBottom" fmla="*/ 1076760 h 1076400"/>
                  </a:gdLst>
                  <a:ahLst/>
                  <a:rect l="textAreaLeft" t="textAreaTop" r="textAreaRight" b="textAreaBottom"/>
                  <a:pathLst>
                    <a:path w="579" h="678">
                      <a:moveTo>
                        <a:pt x="0" y="677"/>
                      </a:moveTo>
                      <a:lnTo>
                        <a:pt x="481" y="0"/>
                      </a:lnTo>
                      <a:lnTo>
                        <a:pt x="578" y="0"/>
                      </a:lnTo>
                      <a:lnTo>
                        <a:pt x="96" y="677"/>
                      </a:lnTo>
                      <a:lnTo>
                        <a:pt x="0" y="677"/>
                      </a:lnTo>
                    </a:path>
                  </a:pathLst>
                </a:custGeom>
                <a:blipFill rotWithShape="0">
                  <a:blip r:embed="rId12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Freeform 17"/>
                <p:cNvSpPr/>
                <p:nvPr/>
              </p:nvSpPr>
              <p:spPr>
                <a:xfrm>
                  <a:off x="7826400" y="5797440"/>
                  <a:ext cx="917640" cy="1076400"/>
                </a:xfrm>
                <a:custGeom>
                  <a:avLst/>
                  <a:gdLst>
                    <a:gd name="textAreaLeft" fmla="*/ 0 w 917640"/>
                    <a:gd name="textAreaRight" fmla="*/ 918000 w 917640"/>
                    <a:gd name="textAreaTop" fmla="*/ 0 h 1076400"/>
                    <a:gd name="textAreaBottom" fmla="*/ 1076760 h 1076400"/>
                  </a:gdLst>
                  <a:ahLst/>
                  <a:rect l="textAreaLeft" t="textAreaTop" r="textAreaRight" b="textAreaBottom"/>
                  <a:pathLst>
                    <a:path w="578" h="678">
                      <a:moveTo>
                        <a:pt x="0" y="677"/>
                      </a:moveTo>
                      <a:lnTo>
                        <a:pt x="480" y="0"/>
                      </a:lnTo>
                      <a:lnTo>
                        <a:pt x="577" y="0"/>
                      </a:lnTo>
                      <a:lnTo>
                        <a:pt x="96" y="677"/>
                      </a:lnTo>
                      <a:lnTo>
                        <a:pt x="0" y="677"/>
                      </a:lnTo>
                    </a:path>
                  </a:pathLst>
                </a:custGeom>
                <a:blipFill rotWithShape="0">
                  <a:blip r:embed="rId13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Freeform 18"/>
                <p:cNvSpPr/>
                <p:nvPr/>
              </p:nvSpPr>
              <p:spPr>
                <a:xfrm>
                  <a:off x="8577360" y="6072120"/>
                  <a:ext cx="574560" cy="801720"/>
                </a:xfrm>
                <a:custGeom>
                  <a:avLst/>
                  <a:gdLst>
                    <a:gd name="textAreaLeft" fmla="*/ 0 w 574560"/>
                    <a:gd name="textAreaRight" fmla="*/ 574920 w 574560"/>
                    <a:gd name="textAreaTop" fmla="*/ 0 h 801720"/>
                    <a:gd name="textAreaBottom" fmla="*/ 802080 h 801720"/>
                  </a:gdLst>
                  <a:ahLst/>
                  <a:rect l="textAreaLeft" t="textAreaTop" r="textAreaRight" b="textAreaBottom"/>
                  <a:pathLst>
                    <a:path w="362" h="505">
                      <a:moveTo>
                        <a:pt x="0" y="504"/>
                      </a:moveTo>
                      <a:lnTo>
                        <a:pt x="361" y="0"/>
                      </a:lnTo>
                      <a:lnTo>
                        <a:pt x="361" y="122"/>
                      </a:lnTo>
                      <a:lnTo>
                        <a:pt x="96" y="504"/>
                      </a:lnTo>
                      <a:lnTo>
                        <a:pt x="0" y="504"/>
                      </a:lnTo>
                    </a:path>
                  </a:pathLst>
                </a:custGeom>
                <a:blipFill rotWithShape="0">
                  <a:blip r:embed="rId14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4" name="Freeform 19"/>
            <p:cNvSpPr/>
            <p:nvPr/>
          </p:nvSpPr>
          <p:spPr>
            <a:xfrm>
              <a:off x="0" y="2760840"/>
              <a:ext cx="819000" cy="1449360"/>
            </a:xfrm>
            <a:custGeom>
              <a:avLst/>
              <a:gdLst>
                <a:gd name="textAreaLeft" fmla="*/ 0 w 819000"/>
                <a:gd name="textAreaRight" fmla="*/ 819360 w 819000"/>
                <a:gd name="textAreaTop" fmla="*/ 0 h 1449360"/>
                <a:gd name="textAreaBottom" fmla="*/ 1449720 h 1449360"/>
              </a:gdLst>
              <a:ahLst/>
              <a:rect l="textAreaLeft" t="textAreaTop" r="textAreaRight" b="textAreaBottom"/>
              <a:pathLst>
                <a:path w="516" h="913">
                  <a:moveTo>
                    <a:pt x="0" y="0"/>
                  </a:moveTo>
                  <a:lnTo>
                    <a:pt x="515" y="0"/>
                  </a:lnTo>
                  <a:lnTo>
                    <a:pt x="0" y="912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2B9CC-0825-485C-8E7D-97E973BC8E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Atomic Struc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ass number:  the number of protons and neutrons in the nucle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x:  hydrogen can have a mass of 1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ince it has 1 proton it must have 0 neutr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# of neutrons = mass # - atomic #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How do we know the number of subatomic particles in an atom?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Determining the number of protons and neutron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Li has a mass number of 7 and an atomic number of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rotons = 3 (same as atomic #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eutrons= 7-3 = 4 (mass # - atomic #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e has a mass number of 20 and an atomic number of 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rotons = 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eutrons = 20 - 10= 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What about the electrons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electrons are equal to the number of prot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o e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= p = atomic #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x:  He has a mass # of 4 and an atomic # of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</a:rPr>
              <a:t>p+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=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=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=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8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8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8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8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8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8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8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8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8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8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8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8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8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8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8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8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8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8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8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8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8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8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8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8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Determine the number of subatomic particles in the following: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84872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 has a mass # of 35 and an atomic # of 1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=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=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 has a mass # of 39 and an atomic # of 1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=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=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8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8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8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8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8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8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8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8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8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8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8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8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8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8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8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8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How exactly are the particles arranged?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hr Model of the atom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viewers think this could lead to misconceptions!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Oval 4"/>
          <p:cNvSpPr/>
          <p:nvPr/>
        </p:nvSpPr>
        <p:spPr>
          <a:xfrm>
            <a:off x="4267080" y="3581280"/>
            <a:ext cx="609840" cy="6098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Oval 5"/>
          <p:cNvSpPr/>
          <p:nvPr/>
        </p:nvSpPr>
        <p:spPr>
          <a:xfrm>
            <a:off x="3886200" y="3200400"/>
            <a:ext cx="1371600" cy="1371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Oval 6"/>
          <p:cNvSpPr/>
          <p:nvPr/>
        </p:nvSpPr>
        <p:spPr>
          <a:xfrm>
            <a:off x="3657600" y="2971800"/>
            <a:ext cx="1828800" cy="1828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Oval 7"/>
          <p:cNvSpPr/>
          <p:nvPr/>
        </p:nvSpPr>
        <p:spPr>
          <a:xfrm>
            <a:off x="3429000" y="2743200"/>
            <a:ext cx="2286000" cy="2286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Oval 8"/>
          <p:cNvSpPr/>
          <p:nvPr/>
        </p:nvSpPr>
        <p:spPr>
          <a:xfrm>
            <a:off x="3200400" y="2514600"/>
            <a:ext cx="2743200" cy="2743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Line 9"/>
          <p:cNvSpPr/>
          <p:nvPr/>
        </p:nvSpPr>
        <p:spPr>
          <a:xfrm flipH="1">
            <a:off x="4723920" y="2971800"/>
            <a:ext cx="167652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6553080" y="236232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All of the protons and the neutr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Oval 11"/>
          <p:cNvSpPr/>
          <p:nvPr/>
        </p:nvSpPr>
        <p:spPr>
          <a:xfrm>
            <a:off x="4495680" y="4419720"/>
            <a:ext cx="152640" cy="2286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Oval 12"/>
          <p:cNvSpPr/>
          <p:nvPr/>
        </p:nvSpPr>
        <p:spPr>
          <a:xfrm>
            <a:off x="4495680" y="3048120"/>
            <a:ext cx="152640" cy="2286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Oval 13"/>
          <p:cNvSpPr/>
          <p:nvPr/>
        </p:nvSpPr>
        <p:spPr>
          <a:xfrm>
            <a:off x="4876920" y="4572000"/>
            <a:ext cx="152280" cy="2286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Oval 14"/>
          <p:cNvSpPr/>
          <p:nvPr/>
        </p:nvSpPr>
        <p:spPr>
          <a:xfrm>
            <a:off x="5334120" y="3429000"/>
            <a:ext cx="152280" cy="2286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Oval 15"/>
          <p:cNvSpPr/>
          <p:nvPr/>
        </p:nvSpPr>
        <p:spPr>
          <a:xfrm>
            <a:off x="4876920" y="2971800"/>
            <a:ext cx="152280" cy="2286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Oval 16"/>
          <p:cNvSpPr/>
          <p:nvPr/>
        </p:nvSpPr>
        <p:spPr>
          <a:xfrm>
            <a:off x="4114800" y="4572000"/>
            <a:ext cx="152280" cy="2286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Oval 17"/>
          <p:cNvSpPr/>
          <p:nvPr/>
        </p:nvSpPr>
        <p:spPr>
          <a:xfrm>
            <a:off x="3733920" y="3276720"/>
            <a:ext cx="152280" cy="2286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Oval 18"/>
          <p:cNvSpPr/>
          <p:nvPr/>
        </p:nvSpPr>
        <p:spPr>
          <a:xfrm>
            <a:off x="4191120" y="2895480"/>
            <a:ext cx="152280" cy="2286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Oval 19"/>
          <p:cNvSpPr/>
          <p:nvPr/>
        </p:nvSpPr>
        <p:spPr>
          <a:xfrm>
            <a:off x="5334120" y="4191120"/>
            <a:ext cx="152280" cy="2286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Oval 20"/>
          <p:cNvSpPr/>
          <p:nvPr/>
        </p:nvSpPr>
        <p:spPr>
          <a:xfrm>
            <a:off x="3657600" y="4114800"/>
            <a:ext cx="152280" cy="2286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21"/>
          <p:cNvSpPr/>
          <p:nvPr/>
        </p:nvSpPr>
        <p:spPr>
          <a:xfrm>
            <a:off x="6553080" y="3962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e 1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omic Sans MS"/>
              </a:rPr>
              <a:t>st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ring can hold up to 2 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omic Sans MS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Line 22"/>
          <p:cNvSpPr/>
          <p:nvPr/>
        </p:nvSpPr>
        <p:spPr>
          <a:xfrm flipH="1" flipV="1">
            <a:off x="5257800" y="3885840"/>
            <a:ext cx="129528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23"/>
          <p:cNvSpPr/>
          <p:nvPr/>
        </p:nvSpPr>
        <p:spPr>
          <a:xfrm>
            <a:off x="6172200" y="47242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e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omic Sans MS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ring can hold up to 8 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omic Sans MS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Line 24"/>
          <p:cNvSpPr/>
          <p:nvPr/>
        </p:nvSpPr>
        <p:spPr>
          <a:xfrm flipH="1" flipV="1">
            <a:off x="5257800" y="4419360"/>
            <a:ext cx="9144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Line 26"/>
          <p:cNvSpPr/>
          <p:nvPr/>
        </p:nvSpPr>
        <p:spPr>
          <a:xfrm>
            <a:off x="2514600" y="3733920"/>
            <a:ext cx="91440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 Box 27"/>
          <p:cNvSpPr/>
          <p:nvPr/>
        </p:nvSpPr>
        <p:spPr>
          <a:xfrm>
            <a:off x="1066680" y="335268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e 3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omic Sans MS"/>
              </a:rPr>
              <a:t>rd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ring can hold up to 18 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omic Sans MS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28"/>
          <p:cNvSpPr/>
          <p:nvPr/>
        </p:nvSpPr>
        <p:spPr>
          <a:xfrm>
            <a:off x="1447920" y="4343400"/>
            <a:ext cx="167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e 4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ring and any after can hold up to 32 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omic Sans MS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Line 29"/>
          <p:cNvSpPr/>
          <p:nvPr/>
        </p:nvSpPr>
        <p:spPr>
          <a:xfrm flipV="1">
            <a:off x="2819520" y="4647960"/>
            <a:ext cx="60948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8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What does carbon look like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ass # = 12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tomic # = 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= 6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= 6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= 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Oval 4"/>
          <p:cNvSpPr/>
          <p:nvPr/>
        </p:nvSpPr>
        <p:spPr>
          <a:xfrm>
            <a:off x="4572000" y="350532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Oval 5"/>
          <p:cNvSpPr/>
          <p:nvPr/>
        </p:nvSpPr>
        <p:spPr>
          <a:xfrm>
            <a:off x="3733920" y="2590920"/>
            <a:ext cx="1981080" cy="20574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Oval 6"/>
          <p:cNvSpPr/>
          <p:nvPr/>
        </p:nvSpPr>
        <p:spPr>
          <a:xfrm>
            <a:off x="4114800" y="2971800"/>
            <a:ext cx="1219320" cy="1295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ext Box 7"/>
          <p:cNvSpPr/>
          <p:nvPr/>
        </p:nvSpPr>
        <p:spPr>
          <a:xfrm>
            <a:off x="6553080" y="28195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6 p and 6 n live in the nucle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Line 8"/>
          <p:cNvSpPr/>
          <p:nvPr/>
        </p:nvSpPr>
        <p:spPr>
          <a:xfrm flipH="1">
            <a:off x="4876920" y="3124080"/>
            <a:ext cx="167616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Oval 9"/>
          <p:cNvSpPr/>
          <p:nvPr/>
        </p:nvSpPr>
        <p:spPr>
          <a:xfrm>
            <a:off x="4114800" y="3200400"/>
            <a:ext cx="228600" cy="2286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Oval 10"/>
          <p:cNvSpPr/>
          <p:nvPr/>
        </p:nvSpPr>
        <p:spPr>
          <a:xfrm>
            <a:off x="5105520" y="3962520"/>
            <a:ext cx="228600" cy="2286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Oval 11"/>
          <p:cNvSpPr/>
          <p:nvPr/>
        </p:nvSpPr>
        <p:spPr>
          <a:xfrm>
            <a:off x="4648320" y="2514600"/>
            <a:ext cx="228600" cy="2286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Oval 12"/>
          <p:cNvSpPr/>
          <p:nvPr/>
        </p:nvSpPr>
        <p:spPr>
          <a:xfrm>
            <a:off x="4648320" y="4572000"/>
            <a:ext cx="228600" cy="2286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Oval 13"/>
          <p:cNvSpPr/>
          <p:nvPr/>
        </p:nvSpPr>
        <p:spPr>
          <a:xfrm>
            <a:off x="3657600" y="3657600"/>
            <a:ext cx="228600" cy="2286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Oval 14"/>
          <p:cNvSpPr/>
          <p:nvPr/>
        </p:nvSpPr>
        <p:spPr>
          <a:xfrm>
            <a:off x="5562720" y="3657600"/>
            <a:ext cx="228600" cy="2286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3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5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What is an atom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tom:  the smallest unit of matter that retains the identity of the subst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rst proposed by Democritu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1522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Atomic Theor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ll Matter is composed of ato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toms are the building blocks of mat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toms of a given element are identic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ll elements of the same (neutral) element have the same number of protons and electr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toms of different elements combine in simple whole-number ratios to form chemical compou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e ways atoms combine to form compounds is determined by the valence electrons of an ele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Atomic Struc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toms are composed of 2 reg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ucleus:  the center of the atom that contains the mass of the at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lectron cloud:  region that surrounds the nucleus that contains most of the space in the at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Oval 4"/>
          <p:cNvSpPr/>
          <p:nvPr/>
        </p:nvSpPr>
        <p:spPr>
          <a:xfrm>
            <a:off x="5257800" y="4724280"/>
            <a:ext cx="533520" cy="5335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Oval 5"/>
          <p:cNvSpPr/>
          <p:nvPr/>
        </p:nvSpPr>
        <p:spPr>
          <a:xfrm>
            <a:off x="4800600" y="4267080"/>
            <a:ext cx="1447920" cy="1447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Line 6"/>
          <p:cNvSpPr/>
          <p:nvPr/>
        </p:nvSpPr>
        <p:spPr>
          <a:xfrm flipV="1">
            <a:off x="5638680" y="4800240"/>
            <a:ext cx="99072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Line 7"/>
          <p:cNvSpPr/>
          <p:nvPr/>
        </p:nvSpPr>
        <p:spPr>
          <a:xfrm flipH="1">
            <a:off x="4038120" y="4952880"/>
            <a:ext cx="83844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6629400" y="441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ucle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2743200" y="4648320"/>
            <a:ext cx="1523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lectr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lou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What’s in the Nucleus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nucleus contains 2 of the 3 subatomic partic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rotons:  positively charged subatomic parti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eutrons:  neutrally charged subatomic parti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What’s in the Electron Cloud?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omic Sans MS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subatomic particle resides outside of the nucleus in the electron clou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lectron:  the subatomic particle with a negative charge and relatively no m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How do these particles interact?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otons and neutrons live compacted in the tiny positively charged nucleus accounting for most of the mass of the at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negatively charged electrons are small and have a relatively small mass but occupy a large volume of space outside the nucleu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How do the subatomic particles balance each other?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 an atom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e protons = the electr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20 protons are present in an atom then 20 electrons are there to balance the overall charge of the atom—atoms are neut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e neutrons have no charge; therefore they do not have to equal the number of protons or electr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5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0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5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0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How do we know the number of subatomic particles in an atom?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714680"/>
            <a:ext cx="7772400" cy="438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tomic number:  this number indicates the number of protons in an at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x:  Hydrogen’s atomic number is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o hydrogen has 1 prot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x:  Carbon’s atomic number is 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o carbon has 6 prot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**The number of protons identifies the ato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x.  2 protons = He, 29 protons = C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9T03:16:44Z</dcterms:created>
  <dc:creator>jcameron</dc:creator>
  <dc:description/>
  <dc:language>en-US</dc:language>
  <cp:lastModifiedBy>Administrator</cp:lastModifiedBy>
  <dcterms:modified xsi:type="dcterms:W3CDTF">2014-05-21T18:36:16Z</dcterms:modified>
  <cp:revision>23</cp:revision>
  <dc:subject/>
  <dc:title>Atomic Structure</dc:title>
</cp:coreProperties>
</file>